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8518-4A0D-4984-AAAF-658E1ED4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8A4F-EC9B-4B3F-9AAA-A8C19D9F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9734-CAFC-463D-8FDB-12A7F99B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DF64-76BB-4A88-8BE6-5F662AC3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57CC-6A95-4939-9AEB-4D093406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3AD0-6766-4E67-9C95-B98774C6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F790-12F2-45E8-82EA-181FCFC3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0365-A144-4B22-850F-894B3BF1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D64E-B1E7-4596-A7F0-50BC5232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903F-AFB3-4877-BDB7-31BEB4D6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A826-B942-46EE-BA2C-240C0F35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5B59-8477-4625-94D6-D976963F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C74C-B970-460F-9FAF-6AC28C4FF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609480"/>
          <a:ext cx="8229600" cy="52801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n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tial Ques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ts &am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p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shine S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s &amp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chma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tudents Will: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s/ Materi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21:27:01Z</dcterms:created>
  <dc:creator>Candice</dc:creator>
  <dc:description/>
  <dc:language>en-US</dc:language>
  <cp:lastModifiedBy>Candice</cp:lastModifiedBy>
  <dcterms:modified xsi:type="dcterms:W3CDTF">2007-04-04T21:27:14Z</dcterms:modified>
  <cp:revision>1</cp:revision>
  <dc:subject/>
  <dc:title>Week:</dc:title>
</cp:coreProperties>
</file>